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0BB-A1AB-4295-89A6-ED06D60E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8B87-F516-47AF-8298-493B3394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D57-0403-44E8-A5BB-C45D4406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D2C-96ED-4704-8335-7C45288B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CF67-81D9-446E-81FD-66EC8748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0944-F442-4155-A2D6-D2FC4D78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621D-D19C-460E-8B33-71C5A61B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FD89-39F2-46BB-B81F-DF0D205A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1E9E-A1C3-4A77-93ED-9E5871C7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69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AE4D-8F13-493D-B290-09FD03F7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82C2-F887-4613-8298-3B33A870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CC79-2842-483E-BB42-1E70C7C7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A77E-5D4F-4A2C-9F5D-285CD71A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BD77-980C-404B-9481-FDCC9792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E6FE-FC12-4261-9029-D5BDB9DB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9272-1075-4768-B6A5-78C94A54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7B9A-A569-4ED9-96D6-2440C1AF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5BA-DAB7-49A0-AEA4-71D2FC20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5CE5-BC4D-4AD0-A3D5-AD13065A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40B0-41BA-4492-84E3-FA2D2914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69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C064-15BE-466E-BD96-4AED5AB6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0BF7-BD63-4B3D-9484-EF0193F0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428-A92E-4A42-A745-B1BBB501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A52-C07A-4D2E-92A1-02C23533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903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6080" y="6248520"/>
            <a:ext cx="289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DAD6-56A0-4B5F-887E-8B750F5338C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E059-48BB-4EFA-9803-7E484A749CD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74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123640" y="1268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08000" y="306360"/>
            <a:ext cx="5472360" cy="655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36680" y="-1440"/>
            <a:ext cx="4672080" cy="6862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CARABINIE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incontro delle classi terze con il capitano dei Carabinieri M. Zampelli ha permesso ai ragazzi di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flettere sul comportamento delle regole in famiglia, nel gruppo, nella società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solidare una coscienza democratica finalizzata alla lotta contro comportamenti illeciti: bullismo, prevaricazioni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viluppare l’interesse per l’assunzione di comportamenti ispirati alla cultura della legalità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6121440" cy="446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691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IENTE PANICO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a psicologa dott.ssa  L. Divincenzo ha proposto agli alunni due moduli tematici, al fine di mettere in atto comportamenti di prevenzione e di primo intervento nelle emergenz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696080" cy="43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n il  1° modulo (Voglia di andare…) è stato affrontato il tema dei rischi tecnici derivanti dalla mitizzazione del mezzo meccanico, dell’istinto di potenza, della assunzione di sostanze che possono indurre uno stato alterato di coscienza e influire sulla guida di un mezz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 il  2° modulo (Niente panico!) sono state suggerite le strategie di intervento nelle emergenze (gestione del panico), anche con simulate di situazioni criti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a fine del corso è stato somministrato un questionario di apprendiment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952560"/>
            <a:ext cx="6193080" cy="4978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L  CONCORSO DI ID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’ stato proposto agli alunni il concorso di ide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l tema “Strada e legalità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-4583160" y="6356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286080" y="3564000"/>
            <a:ext cx="30862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7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808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a strada è di tutti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808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1" name="g1110753" descr=""/>
          <p:cNvPicPr/>
          <p:nvPr/>
        </p:nvPicPr>
        <p:blipFill>
          <a:blip r:embed="rId1"/>
          <a:stretch/>
        </p:blipFill>
        <p:spPr>
          <a:xfrm>
            <a:off x="6864480" y="5235480"/>
            <a:ext cx="876240" cy="1076400"/>
          </a:xfrm>
          <a:prstGeom prst="rect">
            <a:avLst/>
          </a:prstGeom>
          <a:ln w="0">
            <a:noFill/>
          </a:ln>
        </p:spPr>
      </p:pic>
      <p:pic>
        <p:nvPicPr>
          <p:cNvPr id="192" name="g1110753" descr=""/>
          <p:cNvPicPr/>
          <p:nvPr/>
        </p:nvPicPr>
        <p:blipFill>
          <a:blip r:embed="rId2"/>
          <a:stretch/>
        </p:blipFill>
        <p:spPr>
          <a:xfrm>
            <a:off x="6877080" y="5229360"/>
            <a:ext cx="876240" cy="1076040"/>
          </a:xfrm>
          <a:prstGeom prst="rect">
            <a:avLst/>
          </a:prstGeom>
          <a:ln w="0">
            <a:noFill/>
          </a:ln>
        </p:spPr>
      </p:pic>
      <p:pic>
        <p:nvPicPr>
          <p:cNvPr id="193" name="g1110753" descr=""/>
          <p:cNvPicPr/>
          <p:nvPr/>
        </p:nvPicPr>
        <p:blipFill>
          <a:blip r:embed="rId3"/>
          <a:stretch/>
        </p:blipFill>
        <p:spPr>
          <a:xfrm>
            <a:off x="6877080" y="5229360"/>
            <a:ext cx="876240" cy="1076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696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SCUOLA SECONDARIA  I° GRADO   “R. MORO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BARLETTA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CONCORSO DI IDE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La  Scuola   secondaria  di primo grado “R. Moro”, nel quadro delle iniziative e delle attività inerenti all’ Educazione alla Convivenza e alla Cittadinanza attiva, bandisce un concorso di idee sui temi della 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educazione alla legalità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, con particolare riferimento alla 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sicurezza stradale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,  dal titol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FINALITA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Il concorso mira ad incentivare la cultura della sicurezza, a promuovere comportamenti sicuri e responsabili anche attraverso la conoscenza dell’ambiente circostan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DESTINATARI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Possono partecipare singoli  alunni, gruppi di alunni o  intere scolaresche delle classi prime e seconde della  Scuola secondaria di 1° grado ”R.Moro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REGOLAMEN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Tema del concorso è  “Strada e legalità”. Su questo tema gli alunni dovranno realizzare gli elaborati distinti in due sezioni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sezione letteraria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: poesia o racconto (anche illustrato) o sceneggiatura da cui si evinca l’importanza del rispetto delle regole per prevenire i pericoli e proporre interventi risolutiv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sezione artistica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: disegni, bozzetti, manifesti “pubblicità progresso” finalizzati all’acquisizione di un comportamento corretto,  buona educazione, cortesia e gentilezza, o che  diano suggerimenti per rendere la strada più sicura, per diventare più rispettosi dell’ambient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Gli elaborati dovranno essere consegnati entro le ore 12.00 del  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26 maggio 200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PREMIAZIO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Tutti i lavori pervenuti entro il termine stabilito saranno esaminati da una giuria composta, oltre che dal Dirigente scolastico e dai docenti referenti, da un rappresentante della Polizia municipale-Settore Legalità e Sicurezza urba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I premi, assegnati secondo due distinte graduatorie, una per ogni sezione, consisteranno in giochi didattici interattivi, libri, materiale di cancelleri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Tutti i partecipanti riceveranno un attestato e un simbolico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patentino del buon utente della strad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ISCRIZIONE AL CONCORSO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E’ possibile iscriversi compilando la scheda di partecipazione e consegnandola alle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prof.sse  Marzano   o Musso entro il 5 maggio 200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L’ iscrizione al concorso è gratuita 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718080" y="1268280"/>
            <a:ext cx="1861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7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808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a strada è di tutti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808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7" name="g1110753" descr=""/>
          <p:cNvPicPr/>
          <p:nvPr/>
        </p:nvPicPr>
        <p:blipFill>
          <a:blip r:embed="rId1"/>
          <a:stretch/>
        </p:blipFill>
        <p:spPr>
          <a:xfrm>
            <a:off x="6877080" y="5880240"/>
            <a:ext cx="525600" cy="644400"/>
          </a:xfrm>
          <a:prstGeom prst="rect">
            <a:avLst/>
          </a:prstGeom>
          <a:ln w="0">
            <a:noFill/>
          </a:ln>
        </p:spPr>
      </p:pic>
    </p:spTree>
  </p:cSld>
  <p:transition advTm="0">
    <p:random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9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9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9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9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9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9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9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360" y="692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i alunni hanno prodotto cartelloni, disegni, bozzetti, manufatti, plastic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sono cimentati nella composizione di poesie, filastrocche, racconti sul tema della sicurezza strada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quantità e la qualità dei lavori presentati , confluiti in una mostra, sono indicativi non solo del gradimento dell’iniziativa, ma anche del coinvolgimento degli alunni nell’analizzare le problematiche e nel proporre ipotesi di soluzio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l corso di una manifestazione tenutasi l’ 8 giugno 2007 , alla presenza del Comandante di Polizia municipale dott. Col. S. Filannino e del maresciallo Bottaro,ai vincitori del Concorso di idee e a tutti gli alunni partecipanti sono stati consegnati i premi, oltre ad un attestato di partecipazio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b800"/>
                </a:solidFill>
                <a:latin typeface="Comic Sans MS"/>
              </a:rPr>
              <a:t>           </a:t>
            </a:r>
            <a:r>
              <a:rPr b="1" lang="it-IT" sz="1600" spc="-1" strike="noStrike">
                <a:solidFill>
                  <a:srgbClr val="ffb800"/>
                </a:solidFill>
                <a:latin typeface="Comic Sans MS"/>
              </a:rPr>
              <a:t>SCUOLA SECONDARIA 1° GRADO R.MOR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b800"/>
                </a:solidFill>
                <a:latin typeface="Comic Sans MS"/>
              </a:rPr>
              <a:t>                               </a:t>
            </a:r>
            <a:r>
              <a:rPr b="1" lang="it-IT" sz="1600" spc="-1" strike="noStrike">
                <a:solidFill>
                  <a:srgbClr val="ffb800"/>
                </a:solidFill>
                <a:latin typeface="Comic Sans MS"/>
              </a:rPr>
              <a:t>Barlet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b800"/>
                </a:solidFill>
                <a:latin typeface="Comic Sans MS"/>
              </a:rPr>
              <a:t>Si attesta che l’alunno  XXXX   YYYY   ha partecipato al concorso di idee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b800"/>
                </a:solidFill>
                <a:latin typeface="Comic Sans MS"/>
              </a:rPr>
              <a:t>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b800"/>
                </a:solidFill>
                <a:latin typeface="Comic Sans MS"/>
              </a:rPr>
              <a:t>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b800"/>
                </a:solidFill>
                <a:latin typeface="Comic Sans MS"/>
              </a:rPr>
              <a:t>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b800"/>
                </a:solidFill>
                <a:latin typeface="Comic Sans MS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b800"/>
                </a:solidFill>
                <a:latin typeface="Comic Sans MS"/>
              </a:rPr>
              <a:t>sul tema        “Strada e legalità” .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b800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b800"/>
                </a:solidFill>
                <a:latin typeface="Comic Sans MS"/>
              </a:rPr>
              <a:t>                                                         </a:t>
            </a:r>
            <a:r>
              <a:rPr b="1" lang="it-IT" sz="1600" spc="-1" strike="noStrike">
                <a:solidFill>
                  <a:srgbClr val="ffb800"/>
                </a:solidFill>
                <a:latin typeface="Comic Sans MS"/>
              </a:rPr>
              <a:t>Il dirigente scolastico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b800"/>
                </a:solidFill>
                <a:latin typeface="Comic Sans MS"/>
              </a:rPr>
              <a:t>                                                      </a:t>
            </a:r>
            <a:r>
              <a:rPr b="1" lang="it-IT" sz="1600" spc="-1" strike="noStrike">
                <a:solidFill>
                  <a:srgbClr val="ffb800"/>
                </a:solidFill>
                <a:latin typeface="Comic Sans MS"/>
              </a:rPr>
              <a:t>Prof. M. Stellatell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b800"/>
                </a:solidFill>
                <a:latin typeface="Comic Sans MS"/>
              </a:rPr>
              <a:t>                                                                                                                    </a:t>
            </a:r>
            <a:r>
              <a:rPr b="1" lang="it-IT" sz="1600" spc="-1" strike="noStrike">
                <a:solidFill>
                  <a:srgbClr val="ffb8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b800"/>
                </a:solidFill>
                <a:latin typeface="Comic Sans MS"/>
              </a:rPr>
              <a:t>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b800"/>
                </a:solidFill>
                <a:latin typeface="Comic Sans MS"/>
              </a:rPr>
              <a:t>                    </a:t>
            </a:r>
            <a:r>
              <a:rPr b="1" lang="it-IT" sz="1600" spc="-1" strike="noStrike">
                <a:solidFill>
                  <a:srgbClr val="ffb800"/>
                </a:solidFill>
                <a:latin typeface="Comic Sans MS"/>
              </a:rPr>
              <a:t>Anno scolastico 2006-200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411280" y="2708280"/>
            <a:ext cx="30862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7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808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a strada è di tutti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808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Preside prof. Mariano Stellatelli e le coordinatrici del progetto prof.sse Nicoletta Musso e Rosa Marzano ringraziano quanti, a vario titolo, si sono resi disponibili a collaborare per l’attuazione ed il conseguimento degli obiettivi del proget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n ringraziamento speciale va alle docenti Maria Campese e Sara Pinto che, con la loro abnegazione, hanno contribuito a creare nelle classi  un clima di attiva e produttiva partecipazio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RIVEDERCI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SSIMO  AN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084720" y="1915920"/>
            <a:ext cx="2195280" cy="2376360"/>
            <a:chOff x="6084720" y="1915920"/>
            <a:chExt cx="2195280" cy="2376360"/>
          </a:xfrm>
        </p:grpSpPr>
        <p:pic>
          <p:nvPicPr>
            <p:cNvPr id="210" name="g1110753" descr=""/>
            <p:cNvPicPr/>
            <p:nvPr/>
          </p:nvPicPr>
          <p:blipFill>
            <a:blip r:embed="rId1"/>
            <a:stretch/>
          </p:blipFill>
          <p:spPr>
            <a:xfrm>
              <a:off x="6084720" y="1915920"/>
              <a:ext cx="219528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Queste rime sono rivolt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ad un pubblico particolare: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a tutti coloro che la strada vogliono frequentare.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Automobilista,  attento: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sulla strada non si può indisciplinatamente circolare,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ci sono delle regole da rispettare.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Appena entri in macchina non esitare: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la cintura di sicurezza devi indossare.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Il semaforo occorre osservar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e i colori ti possono agevolare: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con il rosso non transitare,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con il giallo è meglio aspettare,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con il verde passa, senza indugiare.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Se un incrocio devi attraversare,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non puoi dimenticare: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la precedenza a destra devi dare.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E voi pedoni, cosa pensate?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Ci sono anche per voi norme ben ponderate!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Sulle strisce pedonali dovete camminare,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ma prima di attraversar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il semaforo verde deve scattare.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Se un investimento non volete rischiare,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attenetevi alle regole: sul marciapiede dovete circolare.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Nel caso il marciapiede non ci sia,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non fatevi prendere da nessuna fobia: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se in una strada a senso unico state a passeggiar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sul lato destro dovete camminare,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se in una strada a doppio senso vi dovete spostare,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sul lato sinistro vi dovete sistemare.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09800" y="1628640"/>
            <a:ext cx="37717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E voi motociclisti che sulle moto volete andare,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il casco dovete indossare.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E se di sera desiderate guidare,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le luci accese dovete posizionare.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Se sulla moto i vostri amici volete caricare,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più di uno non ne potete portar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e non dovete scordare: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anche loro un casco devono infilare.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Se la moto volete usare,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il motore non dovete truccar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e, per correttamente circolare,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le acrobazie dovete evitare.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E che non pensino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coloro che della bicicletta sono innamorati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che dalle regole siano esentati!!!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Se con la bicicletta vogliono girare,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con la mano la svolta occorre segnalare.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Se le piste ciclabili in città sono assenti,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occorre stare più attenti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e non procedere in mezzo alla carreggiata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in una strada trafficata: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è meglio sul lato destro pedalar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e la circolazione non intralciare.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PALMITESSA  DANIELA   classe 1^  G</a:t>
            </a:r>
            <a:br>
              <a:rPr sz="800"/>
            </a:br>
            <a:r>
              <a:rPr b="1" i="1" lang="en-US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84836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Marco:       ”Nonno, nonno, raccontaci una favola!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Alex</a:t>
            </a:r>
            <a:r>
              <a:rPr b="1" lang="it-IT" sz="900" spc="-1" strike="noStrike">
                <a:solidFill>
                  <a:srgbClr val="000000"/>
                </a:solidFill>
                <a:latin typeface="Century Schoolbook"/>
              </a:rPr>
              <a:t>:      </a:t>
            </a: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”Si, una favola, una favola che nessuno conosce, una  favola fuori dal comune.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Nonno:       ”Vi racconterò, penso di sapere quello che volete,    ascoltate.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Marco:        ”Dai nonno racconta, racconta.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Nonno:        ” Tanto tempo fa in una cittadina di nome “Strada Felice”, vivevano tutti i segnali stradali: Pericolo, Divieto, Stop, 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                  Parcheggio,Passo Carrabile,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                 Senso Unico e molti altri. Purtroppo erano stati vittime dell’incantesimo dei malefici  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                 “Maghi Incidenti e Caos” e per causa di questo incantesimo non riuscivano più a farsi rispettare dalle automobili  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                  come una volta.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                  Le auto erano diventate presuntuose ed anche se i segnali erano sulle loro strade, esse li ignoravano.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                  Un giorno  tutti i segnali si riunirono,  cominciarono  a  discutere per trovare una soluzione a questo problema.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Pericolo:     ”Salve a tutti, fino a qualche giorno fa stavo pensando seriamente di andare in pensione, ma non voglio dare  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                  questa soddisfazione alle automobili.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Passo Carrabile:      ”Hai ragione, quando le auto parcheggiano dove ci sono io, il mio padrone mi accusa di non aver fatto il mio  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                  lavoro.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Stop:         ”Ragazzi, questo succede a tutti noi, ma come facciamo a far capire alle macchine che così non si può più andare  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                  avanti e che è troppo rischioso per le loro vite?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Divieto:     “Caro Stop, non possiamo far nulla, è impossibile essere più forti delle auto.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Senso Unico:     ”E’ proprio qui che ti sbagli, mio caro Divieto. Esiste un uomo chiamato “COMANDANTE DEI VIGILI 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                  URBANI” che ha salvato centinaia e centinaia di vite tanto che si dice che abbia una stanza piena di trofei e  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                 coppe ottenute come ringraziamento. Io so dove abita, presto seguitemi.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Nonno:        ”Tutti insieme seguirono Senso Unico e si trovarono davanti ad una vera e propria reggia.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                    Suonarono al campanello e furono accolti da un omone con tanto di baffi e barba che, con un’espressione dolce, 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                  invitò tutti ad entrare. A turno i segnali  spiegarono la situazione in cui vivevano. Dopo averli ascoltati 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                  attentamente, il comandante decise di recarsi con loro per strada. Qui le automobili sfrecciavano ad alta  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                 velocità, litigavano fra loro provocando incidenti.  Di fronte a tanta confusione il comandante, con un fischio,  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                  attirò l’attenzione di tutti. Comandante:     ”Buongiorno, che confusione regna in questa strada. Sapete anche voi 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                 che così non si può più andare avanti. Ho trovato una soluzione: da oggi organizzerò dei corsi in cui vi presenterò                    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                 tutti i segnali stradali e sono sicuro che in breve tempo diventerete ottimi amici.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Nonno:      ”Un Urrà di gioia seguì alle parole del vigile: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                 da quel giorno le macchine impararono a rispettare i segnali e i segnali a rispettare le macchine, e il comandante 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                 vinse un  altro premio. Ma la cosa più importante è che le macchine, i segnali e i vigili urbani formarono tutti 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                 insieme una famiglia: la famiglia della strada.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Nonno:       ” Vi è piaciuta la storia?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                 Marco:       ” Nonno, è stata bellissima.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Century Schoolbook"/>
              </a:rPr>
              <a:t>                 Alex:         </a:t>
            </a:r>
            <a:r>
              <a:rPr b="0" lang="it-IT" sz="1000" spc="-1" strike="noStrike">
                <a:solidFill>
                  <a:srgbClr val="000000"/>
                </a:solidFill>
                <a:latin typeface="Century Schoolbook"/>
              </a:rPr>
              <a:t>” D’ora in poi  anche noi rispetteremo i segnali stradali e sono sicuro che molti incidenti saranno evitati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4360" y="492120"/>
            <a:ext cx="7696080" cy="365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1912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Imprint MT Shadow"/>
              </a:rPr>
              <a:t>LA FAMIGLIA DELLA STRADA</a:t>
            </a:r>
            <a:endParaRPr b="0" lang="en-US" sz="1800" spc="1" strike="noStrike">
              <a:ln w="9360">
                <a:solidFill>
                  <a:srgbClr val="ff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Imprint MT Shadow"/>
              <a:ea typeface="Imprint MT Shadow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313160" y="6283440"/>
            <a:ext cx="292284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9999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Ravie"/>
              </a:rPr>
              <a:t>DIGIORGIO   SONIA                </a:t>
            </a:r>
            <a:endParaRPr b="0" lang="en-US" sz="1800" spc="1" strike="noStrike">
              <a:ln w="12600">
                <a:solidFill>
                  <a:srgbClr val="ff9999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Ravie"/>
              <a:ea typeface="Ravi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9999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Ravie"/>
              </a:rPr>
              <a:t>                         </a:t>
            </a:r>
            <a:r>
              <a:rPr b="0" lang="en-US" sz="1800" spc="1" strike="noStrike">
                <a:ln w="12600">
                  <a:solidFill>
                    <a:srgbClr val="ff9999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Ravie"/>
              </a:rPr>
              <a:t>1D</a:t>
            </a:r>
            <a:endParaRPr b="0" lang="en-US" sz="1800" spc="1" strike="noStrike">
              <a:ln w="12600">
                <a:solidFill>
                  <a:srgbClr val="ff9999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Ravie"/>
              <a:ea typeface="Ravie"/>
            </a:endParaRPr>
          </a:p>
        </p:txBody>
      </p:sp>
    </p:spTree>
  </p:cSld>
  <p:transition>
    <p:push dir="r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-819360"/>
            <a:ext cx="8534520" cy="2663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           </a:t>
            </a: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SCUOLA SECONDARIA 1° GRADO </a:t>
            </a:r>
            <a:br>
              <a:rPr sz="3200"/>
            </a:b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                   “R.MORO” </a:t>
            </a:r>
            <a:br>
              <a:rPr sz="3200"/>
            </a:br>
            <a:r>
              <a:rPr b="0" lang="it-IT" sz="3200" spc="-1" strike="noStrike">
                <a:solidFill>
                  <a:srgbClr val="703dff"/>
                </a:solidFill>
                <a:latin typeface="Comic Sans MS"/>
              </a:rPr>
              <a:t>                                            </a:t>
            </a: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Barletta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getto di educazione strad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1835280" y="3933720"/>
            <a:ext cx="5545080" cy="29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ocente referente : prof.ssa N. Mu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ordinamento: prof.sse N. Musso - R. Marz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nno scolastico  2006-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ITA’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ducare gli alunni a vivere lo spazio urbano in modo consapevole e seren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ducare gli alunni a diventare corretti utenti della strad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ducare ad essere sensibili alla tutela dell’ambien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IETTIV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oscere l’ambiente in cui si vi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oscere la segnaletica strada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oscere le principali norme del Codice della strad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quisire un comportamento corretto e responsabile come pedone-ciclista-motociclis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oscere cause ed effetti dell’inquinamento ambientale provocato dal traffico veicol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oscere le principali nozioni per prestare il primo soccorso in caso di incidente strada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ENU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strada: un po’ di stori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i utenti della strada: i pedoni, i conducenti di biciclette e di ciclomotor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segnaletica strada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Codice della strad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traffico urban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tutori dell’ord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sere in forma per guidare un veicol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e elementari di primo soccors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CENTI  COINVOL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’educazione stradale è parte integrante dell’educazione alla Convivenza civile; pertan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utt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docenti sono stati coinvolti nel raggiungimento degli obiettivi, programmati a più livelli p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ut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 class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IZIATIVE IN COLLABORAZIONE CON SOGGETTI ESTER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Vigili urbani,  Carabinieri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cultura della legalit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Medico 118, C.R.I., psicolog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rso   breve   di   primo   soccor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IL VIGILE URBANO: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 UN AMICO IN PIU’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l maresciallo di Polizia municipale G.Bottaro ha guidato gli alunni  a riflettere sul rispetto delle norme riguardanti il comportamento del pedone, del ciclista, del motociclista per diventare adulti responsabili, nella vita come alla guida di un veicol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6:00:32Z</dcterms:created>
  <dc:creator>win</dc:creator>
  <dc:description/>
  <dc:language>en-US</dc:language>
  <cp:lastModifiedBy>win</cp:lastModifiedBy>
  <dcterms:modified xsi:type="dcterms:W3CDTF">2007-06-13T19:10:17Z</dcterms:modified>
  <cp:revision>13</cp:revision>
  <dc:subject/>
  <dc:title>SCUOLA SECONDARIA 1° GRADO  “R.MORO”</dc:title>
</cp:coreProperties>
</file>